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85642"/>
        <c:axId val="10066095"/>
      </c:barChart>
      <c:catAx>
        <c:axId val="51885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6095"/>
        <c:crosses val="autoZero"/>
        <c:auto val="1"/>
        <c:lblAlgn val="ctr"/>
        <c:lblOffset val="100"/>
        <c:noMultiLvlLbl val="0"/>
      </c:catAx>
      <c:valAx>
        <c:axId val="10066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85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C3B-7642-4B87-BAD0-219B062D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F89-5A9A-431A-960F-C87724AC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B18-9570-4865-813E-D18DB4C0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A10-67F5-419F-8F46-55B7E0A0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6DF-CA5D-420E-B0E3-9F143DED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DBD-748E-4B84-A912-63ECE1F2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D7F-5727-4EAA-9843-542C56AD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346-384B-487E-946F-899C2F15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117-1F12-4E1F-9E65-F31B5573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C8F-3D24-480F-932A-F26DEF25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F1B-3DE2-406F-8344-D0FEEDBB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DFA-309C-4CBF-A1CE-8A6B204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28487-F2FB-43ED-8D6D-4A881B0F09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